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051-4741-4F17-B5D9-F15F9C7C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33F-3F54-4005-BB70-1F6F803B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04E-4AFD-4182-B94B-63E3D53A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E9F-A658-4AA9-8352-5435A82C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253-C2DB-4C35-A976-A719A595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F21-67A2-4756-9E22-1671D68F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91C-15A6-4B7D-9A8B-6A125336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F874-6A4D-4A87-B863-D344913D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78B-24B3-4546-B7A7-FA0D49D7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667-7E2D-4BDC-A65D-B59CF89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9BD-2E2C-4E58-831A-26333C7C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618-F7DE-4702-AC76-20CF196E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8DA-26E7-4816-B3BD-EC1CBEE07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5181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1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discover the meaning of unknown wor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32004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y do you think it is important to know a lot of word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279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" action="ppaction://hlinksldjump"/>
          </p:cNvPr>
          <p:cNvSpPr/>
          <p:nvPr/>
        </p:nvSpPr>
        <p:spPr>
          <a:xfrm>
            <a:off x="4572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ncuss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perforat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15238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nser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137160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 this wo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xpedi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5238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Perme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 action="ppaction://hlinksldjump"/>
          </p:cNvPr>
          <p:cNvSpPr/>
          <p:nvPr/>
        </p:nvSpPr>
        <p:spPr>
          <a:xfrm>
            <a:off x="9907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mpan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9144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rrectly use this word in a senten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xcess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5335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 you read, try to learn two new word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t us know if you come across our prefixes of the da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S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blanks on your exit s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, com= ________, together,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,ex-,ef-=  Out,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er= ____________, ___________, wron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/Com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n/Com= with, together, very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6386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57200" y="304920"/>
          <a:ext cx="8229600" cy="6171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-, ex-, ef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, V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89240" y="228600"/>
            <a:ext cx="4464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= through, thorough, wrong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>
            <a:hlinkClick r:id="rId1" action="ppaction://hlinksldjump"/>
          </p:cNvPr>
          <p:cNvSpPr/>
          <p:nvPr/>
        </p:nvSpPr>
        <p:spPr>
          <a:xfrm>
            <a:off x="762120" y="609480"/>
            <a:ext cx="1981080" cy="1752840"/>
          </a:xfrm>
          <a:custGeom>
            <a:avLst/>
            <a:gdLst>
              <a:gd name="textAreaLeft" fmla="*/ 113400 w 1981080"/>
              <a:gd name="textAreaRight" fmla="*/ 1867680 w 198108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24412" h="21600">
                <a:moveTo>
                  <a:pt x="0" y="0"/>
                </a:moveTo>
                <a:lnTo>
                  <a:pt x="24412" y="0"/>
                </a:lnTo>
                <a:lnTo>
                  <a:pt x="24412" y="21600"/>
                </a:lnTo>
                <a:lnTo>
                  <a:pt x="0" y="21600"/>
                </a:lnTo>
                <a:close/>
              </a:path>
              <a:path fill="lightenLess" w="24412" h="21600">
                <a:moveTo>
                  <a:pt x="0" y="0"/>
                </a:moveTo>
                <a:lnTo>
                  <a:pt x="24412" y="0"/>
                </a:lnTo>
                <a:lnTo>
                  <a:pt x="23012" y="1400"/>
                </a:lnTo>
                <a:lnTo>
                  <a:pt x="1400" y="1400"/>
                </a:lnTo>
                <a:close/>
              </a:path>
              <a:path fill="darken" w="24412" h="21600">
                <a:moveTo>
                  <a:pt x="24412" y="0"/>
                </a:moveTo>
                <a:lnTo>
                  <a:pt x="24412" y="21600"/>
                </a:lnTo>
                <a:lnTo>
                  <a:pt x="23012" y="20200"/>
                </a:lnTo>
                <a:lnTo>
                  <a:pt x="23012" y="1400"/>
                </a:lnTo>
                <a:close/>
              </a:path>
              <a:path fill="darkenLess" w="24412" h="21600">
                <a:moveTo>
                  <a:pt x="24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2" y="20200"/>
                </a:lnTo>
                <a:close/>
              </a:path>
              <a:path fill="lighten" w="24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09480"/>
            <a:ext cx="2133720" cy="1676520"/>
          </a:xfrm>
          <a:custGeom>
            <a:avLst/>
            <a:gdLst>
              <a:gd name="textAreaLeft" fmla="*/ 108360 w 2133720"/>
              <a:gd name="textAreaRight" fmla="*/ 2025360 w 21337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09480"/>
            <a:ext cx="1904760" cy="1676520"/>
          </a:xfrm>
          <a:custGeom>
            <a:avLst/>
            <a:gdLst>
              <a:gd name="textAreaLeft" fmla="*/ 108360 w 1904760"/>
              <a:gd name="textAreaRight" fmla="*/ 1796400 w 190476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4540" h="21600">
                <a:moveTo>
                  <a:pt x="0" y="0"/>
                </a:moveTo>
                <a:lnTo>
                  <a:pt x="24540" y="0"/>
                </a:lnTo>
                <a:lnTo>
                  <a:pt x="24540" y="21600"/>
                </a:lnTo>
                <a:lnTo>
                  <a:pt x="0" y="21600"/>
                </a:lnTo>
                <a:close/>
              </a:path>
              <a:path fill="lightenLess" w="24540" h="21600">
                <a:moveTo>
                  <a:pt x="0" y="0"/>
                </a:moveTo>
                <a:lnTo>
                  <a:pt x="24540" y="0"/>
                </a:lnTo>
                <a:lnTo>
                  <a:pt x="23140" y="1400"/>
                </a:lnTo>
                <a:lnTo>
                  <a:pt x="1400" y="1400"/>
                </a:lnTo>
                <a:close/>
              </a:path>
              <a:path fill="darken" w="24540" h="21600">
                <a:moveTo>
                  <a:pt x="24540" y="0"/>
                </a:moveTo>
                <a:lnTo>
                  <a:pt x="24540" y="21600"/>
                </a:lnTo>
                <a:lnTo>
                  <a:pt x="23140" y="20200"/>
                </a:lnTo>
                <a:lnTo>
                  <a:pt x="23140" y="1400"/>
                </a:lnTo>
                <a:close/>
              </a:path>
              <a:path fill="darkenLess" w="24540" h="21600">
                <a:moveTo>
                  <a:pt x="2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0" y="20200"/>
                </a:lnTo>
                <a:close/>
              </a:path>
              <a:path fill="lighten" w="2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666880"/>
            <a:ext cx="1981080" cy="1676520"/>
          </a:xfrm>
          <a:custGeom>
            <a:avLst/>
            <a:gdLst>
              <a:gd name="textAreaLeft" fmla="*/ 108360 w 1981080"/>
              <a:gd name="textAreaRight" fmla="*/ 1872720 w 19810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666880"/>
            <a:ext cx="1904760" cy="1600200"/>
          </a:xfrm>
          <a:custGeom>
            <a:avLst/>
            <a:gdLst>
              <a:gd name="textAreaLeft" fmla="*/ 103680 w 1904760"/>
              <a:gd name="textAreaRight" fmla="*/ 1801080 w 190476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5710" h="21600">
                <a:moveTo>
                  <a:pt x="0" y="0"/>
                </a:moveTo>
                <a:lnTo>
                  <a:pt x="25710" y="0"/>
                </a:lnTo>
                <a:lnTo>
                  <a:pt x="25710" y="21600"/>
                </a:lnTo>
                <a:lnTo>
                  <a:pt x="0" y="21600"/>
                </a:lnTo>
                <a:close/>
              </a:path>
              <a:path fill="lightenLess" w="25710" h="21600">
                <a:moveTo>
                  <a:pt x="0" y="0"/>
                </a:moveTo>
                <a:lnTo>
                  <a:pt x="25710" y="0"/>
                </a:lnTo>
                <a:lnTo>
                  <a:pt x="24310" y="1400"/>
                </a:lnTo>
                <a:lnTo>
                  <a:pt x="1400" y="1400"/>
                </a:lnTo>
                <a:close/>
              </a:path>
              <a:path fill="darken" w="25710" h="21600">
                <a:moveTo>
                  <a:pt x="25710" y="0"/>
                </a:moveTo>
                <a:lnTo>
                  <a:pt x="25710" y="21600"/>
                </a:lnTo>
                <a:lnTo>
                  <a:pt x="24310" y="20200"/>
                </a:lnTo>
                <a:lnTo>
                  <a:pt x="24310" y="1400"/>
                </a:lnTo>
                <a:close/>
              </a:path>
              <a:path fill="darkenLess" w="25710" h="21600">
                <a:moveTo>
                  <a:pt x="25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10" y="20200"/>
                </a:lnTo>
                <a:close/>
              </a:path>
              <a:path fill="lighten" w="25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666880"/>
            <a:ext cx="1981440" cy="1676520"/>
          </a:xfrm>
          <a:custGeom>
            <a:avLst/>
            <a:gdLst>
              <a:gd name="textAreaLeft" fmla="*/ 108360 w 1981440"/>
              <a:gd name="textAreaRight" fmla="*/ 1873080 w 198144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5528" h="21600">
                <a:moveTo>
                  <a:pt x="0" y="0"/>
                </a:moveTo>
                <a:lnTo>
                  <a:pt x="25528" y="0"/>
                </a:lnTo>
                <a:lnTo>
                  <a:pt x="25528" y="21600"/>
                </a:lnTo>
                <a:lnTo>
                  <a:pt x="0" y="21600"/>
                </a:lnTo>
                <a:close/>
              </a:path>
              <a:path fill="lightenLess" w="25528" h="21600">
                <a:moveTo>
                  <a:pt x="0" y="0"/>
                </a:moveTo>
                <a:lnTo>
                  <a:pt x="25528" y="0"/>
                </a:lnTo>
                <a:lnTo>
                  <a:pt x="24128" y="1400"/>
                </a:lnTo>
                <a:lnTo>
                  <a:pt x="1400" y="1400"/>
                </a:lnTo>
                <a:close/>
              </a:path>
              <a:path fill="darken" w="25528" h="21600">
                <a:moveTo>
                  <a:pt x="25528" y="0"/>
                </a:moveTo>
                <a:lnTo>
                  <a:pt x="25528" y="21600"/>
                </a:lnTo>
                <a:lnTo>
                  <a:pt x="24128" y="20200"/>
                </a:lnTo>
                <a:lnTo>
                  <a:pt x="24128" y="1400"/>
                </a:lnTo>
                <a:close/>
              </a:path>
              <a:path fill="darkenLess" w="25528" h="21600">
                <a:moveTo>
                  <a:pt x="25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8" y="20200"/>
                </a:lnTo>
                <a:close/>
              </a:path>
              <a:path fill="lighten" w="25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800600"/>
            <a:ext cx="1981080" cy="1576440"/>
          </a:xfrm>
          <a:custGeom>
            <a:avLst/>
            <a:gdLst>
              <a:gd name="textAreaLeft" fmla="*/ 101880 w 1981080"/>
              <a:gd name="textAreaRight" fmla="*/ 1879200 w 1981080"/>
              <a:gd name="textAreaTop" fmla="*/ 101880 h 1576440"/>
              <a:gd name="textAreaBottom" fmla="*/ 1474560 h 1576440"/>
            </a:gdLst>
            <a:ahLst/>
            <a:rect l="textAreaLeft" t="textAreaTop" r="textAreaRight" b="textAreaBottom"/>
            <a:pathLst>
              <a:path w="27143" h="21600">
                <a:moveTo>
                  <a:pt x="0" y="0"/>
                </a:moveTo>
                <a:lnTo>
                  <a:pt x="27143" y="0"/>
                </a:lnTo>
                <a:lnTo>
                  <a:pt x="27143" y="21600"/>
                </a:lnTo>
                <a:lnTo>
                  <a:pt x="0" y="21600"/>
                </a:lnTo>
                <a:close/>
              </a:path>
              <a:path fill="lightenLess" w="27143" h="21600">
                <a:moveTo>
                  <a:pt x="0" y="0"/>
                </a:moveTo>
                <a:lnTo>
                  <a:pt x="27143" y="0"/>
                </a:lnTo>
                <a:lnTo>
                  <a:pt x="25743" y="1400"/>
                </a:lnTo>
                <a:lnTo>
                  <a:pt x="1400" y="1400"/>
                </a:lnTo>
                <a:close/>
              </a:path>
              <a:path fill="darken" w="27143" h="21600">
                <a:moveTo>
                  <a:pt x="27143" y="0"/>
                </a:moveTo>
                <a:lnTo>
                  <a:pt x="27143" y="21600"/>
                </a:lnTo>
                <a:lnTo>
                  <a:pt x="25743" y="20200"/>
                </a:lnTo>
                <a:lnTo>
                  <a:pt x="25743" y="1400"/>
                </a:lnTo>
                <a:close/>
              </a:path>
              <a:path fill="darkenLess" w="27143" h="21600">
                <a:moveTo>
                  <a:pt x="27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43" y="20200"/>
                </a:lnTo>
                <a:close/>
              </a:path>
              <a:path fill="lighten" w="27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800600"/>
            <a:ext cx="2057400" cy="1600200"/>
          </a:xfrm>
          <a:custGeom>
            <a:avLst/>
            <a:gdLst>
              <a:gd name="textAreaLeft" fmla="*/ 103680 w 2057400"/>
              <a:gd name="textAreaRight" fmla="*/ 1953720 w 20574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7770" h="21600">
                <a:moveTo>
                  <a:pt x="0" y="0"/>
                </a:moveTo>
                <a:lnTo>
                  <a:pt x="27770" y="0"/>
                </a:lnTo>
                <a:lnTo>
                  <a:pt x="27770" y="21600"/>
                </a:lnTo>
                <a:lnTo>
                  <a:pt x="0" y="21600"/>
                </a:lnTo>
                <a:close/>
              </a:path>
              <a:path fill="lightenLess" w="27770" h="21600">
                <a:moveTo>
                  <a:pt x="0" y="0"/>
                </a:moveTo>
                <a:lnTo>
                  <a:pt x="27770" y="0"/>
                </a:lnTo>
                <a:lnTo>
                  <a:pt x="26370" y="1400"/>
                </a:lnTo>
                <a:lnTo>
                  <a:pt x="1400" y="1400"/>
                </a:lnTo>
                <a:close/>
              </a:path>
              <a:path fill="darken" w="27770" h="21600">
                <a:moveTo>
                  <a:pt x="27770" y="0"/>
                </a:moveTo>
                <a:lnTo>
                  <a:pt x="27770" y="21600"/>
                </a:lnTo>
                <a:lnTo>
                  <a:pt x="26370" y="20200"/>
                </a:lnTo>
                <a:lnTo>
                  <a:pt x="26370" y="1400"/>
                </a:lnTo>
                <a:close/>
              </a:path>
              <a:path fill="darkenLess" w="27770" h="21600">
                <a:moveTo>
                  <a:pt x="27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0" y="20200"/>
                </a:lnTo>
                <a:close/>
              </a:path>
              <a:path fill="lighten" w="27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4724280"/>
            <a:ext cx="1981080" cy="1600200"/>
          </a:xfrm>
          <a:custGeom>
            <a:avLst/>
            <a:gdLst>
              <a:gd name="textAreaLeft" fmla="*/ 103680 w 1981080"/>
              <a:gd name="textAreaRight" fmla="*/ 1877400 w 19810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6740" h="21600">
                <a:moveTo>
                  <a:pt x="0" y="0"/>
                </a:moveTo>
                <a:lnTo>
                  <a:pt x="26740" y="0"/>
                </a:lnTo>
                <a:lnTo>
                  <a:pt x="26740" y="21600"/>
                </a:lnTo>
                <a:lnTo>
                  <a:pt x="0" y="21600"/>
                </a:lnTo>
                <a:close/>
              </a:path>
              <a:path fill="lightenLess" w="26740" h="21600">
                <a:moveTo>
                  <a:pt x="0" y="0"/>
                </a:moveTo>
                <a:lnTo>
                  <a:pt x="26740" y="0"/>
                </a:lnTo>
                <a:lnTo>
                  <a:pt x="25340" y="1400"/>
                </a:lnTo>
                <a:lnTo>
                  <a:pt x="1400" y="1400"/>
                </a:lnTo>
                <a:close/>
              </a:path>
              <a:path fill="darken" w="26740" h="21600">
                <a:moveTo>
                  <a:pt x="26740" y="0"/>
                </a:moveTo>
                <a:lnTo>
                  <a:pt x="26740" y="21600"/>
                </a:lnTo>
                <a:lnTo>
                  <a:pt x="25340" y="20200"/>
                </a:lnTo>
                <a:lnTo>
                  <a:pt x="25340" y="1400"/>
                </a:lnTo>
                <a:close/>
              </a:path>
              <a:path fill="darkenLess" w="26740" h="21600">
                <a:moveTo>
                  <a:pt x="26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40" y="20200"/>
                </a:lnTo>
                <a:close/>
              </a:path>
              <a:path fill="lighten" w="26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is the definition of the prefix in the word below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xal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380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2:27:22Z</dcterms:created>
  <dc:creator>Administrator</dc:creator>
  <dc:description/>
  <dc:language>en-US</dc:language>
  <cp:lastModifiedBy>Administrator</cp:lastModifiedBy>
  <dcterms:modified xsi:type="dcterms:W3CDTF">2010-09-15T19:12:53Z</dcterms:modified>
  <cp:revision>6</cp:revision>
  <dc:subject/>
  <dc:title>Do Now 9-15 I can discover the meaning of unknown words.</dc:title>
</cp:coreProperties>
</file>